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061-D0BB-40F2-A731-F045D5D1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66B-E135-4BC7-9956-1FABBA7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1B1-D8BA-4B86-BFDC-4F98FFF0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2A9-8075-44C9-9AB8-123B0B52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EFC-1232-43FC-BAF3-970F3337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195-B477-475A-B8FB-8D363798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F16-3EEB-45F5-9982-14FD6CE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138-2DF8-4B1C-A460-AB3FFD6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0F9-B12F-492E-90DB-67233B4F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8B0-70A5-47F5-8028-DBF29BA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787-8E8A-44C3-9A0F-89E71CB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AC2-1056-41AF-B37E-2293333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7DA-34A3-409A-89B4-96F220777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2096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CĂ LUCREZI COREC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I AVEA O SURPRIZĂ PLĂCUTĂ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SEAZĂ TABLA ÎNMULŢIRII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80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6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0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88040" y="42670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1976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42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880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976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242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7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8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6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18:41Z</dcterms:created>
  <dc:creator>sa</dc:creator>
  <dc:description/>
  <dc:language>en-US</dc:language>
  <cp:lastModifiedBy>sa</cp:lastModifiedBy>
  <dcterms:modified xsi:type="dcterms:W3CDTF">2008-11-17T18:13:29Z</dcterms:modified>
  <cp:revision>4</cp:revision>
  <dc:subject/>
  <dc:title>1. dia</dc:title>
</cp:coreProperties>
</file>